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2D04-6DFD-4E13-B68E-C425F13F98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4D56-EFA5-43D0-8C9E-2F37712E1B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497-58B9-4E9F-B95F-C778C7E3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997-DD21-45E9-AF74-89E15076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ED6-49C2-4E4C-937D-2063E8CA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37A-6B67-4D16-B629-A062EA60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652B-C169-4569-9E51-68F491AD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208D-A528-4A16-BC82-1A5106E4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1372-AD3A-4BED-8155-F21FF83F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EB5F-F8E6-46C9-AF5F-92CB7D7D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5ED9-CA94-485A-BE8D-F3265130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EA4E-F58E-4F52-8C83-2CEC9C8C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6891-FBCD-4E38-A7C7-437864A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8C4-811E-42AF-950D-88135B73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B3B2-93F8-4EA9-B6E6-18305833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833A-E1B9-4271-B346-00C89AA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A705-D576-4FD4-8BC6-7BBF95DF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8305-983C-48E0-B09F-7BAC33DD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151A-8440-4011-BD4A-6CB0F530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2E9-C831-460B-8336-F9F28178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8C5-0C63-4B3B-BD1A-090D39D8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8DB-D377-45FB-AF9B-EAD9FBBA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304-B4EB-48A9-A890-6C65AFBB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164-3065-481B-B86B-582A4A2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727-2CCF-45E0-9942-A0050887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B22-847C-4884-808B-5614AB65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3889-E381-4C3F-A7C6-8095C2CEF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1776-4FAF-4195-8BC7-32382BBE4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n appét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çon A – Les ali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otre ami veut vous impressionner avec un repas traditionnel frança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lheureusement, son menu n’est pas dans le bon or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ors, récrivez son menu selon un repas traditionn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ssi, écrivez la catégorie en haut du plat (i.e. l’entré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 repas mélangé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salade ve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carottes râp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coq au v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mousse au chocol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Camembert, la Gruyère, et le fromage de chèv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 repas mélangé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carottes râp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’entré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coq au v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plat 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e salade ve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sal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Camembert, la Gruyère, et le fromage de chè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plateau de fro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mousse au chocol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dess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1-09T15:12:32Z</dcterms:modified>
  <cp:revision>95</cp:revision>
  <dc:subject/>
  <dc:title>Allez, viens! – Level 2</dc:title>
</cp:coreProperties>
</file>